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wmf" ContentType="image/x-wmf"/>
  <Override PartName="/ppt/media/image22.jpeg" ContentType="image/jpeg"/>
  <Override PartName="/ppt/media/image3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7.wmf" ContentType="image/x-wmf"/>
  <Override PartName="/ppt/media/image16.gif" ContentType="image/gif"/>
  <Override PartName="/ppt/media/image15.jpeg" ContentType="image/jpeg"/>
  <Override PartName="/ppt/media/image14.wmf" ContentType="image/x-wmf"/>
  <Override PartName="/ppt/media/image12.jpeg" ContentType="image/jpeg"/>
  <Override PartName="/ppt/media/image3.png" ContentType="image/png"/>
  <Override PartName="/ppt/media/image10.jpeg" ContentType="image/jpeg"/>
  <Override PartName="/ppt/media/image8.jpeg" ContentType="image/jpeg"/>
  <Override PartName="/ppt/media/image41.wmf" ContentType="image/x-wmf"/>
  <Override PartName="/ppt/media/image33.jpeg" ContentType="image/jpeg"/>
  <Override PartName="/ppt/media/image13.wmf" ContentType="image/x-wmf"/>
  <Override PartName="/ppt/media/image2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37.png" ContentType="image/png"/>
  <Override PartName="/ppt/media/image36.wmf" ContentType="image/x-wmf"/>
  <Override PartName="/ppt/media/image40.png" ContentType="image/png"/>
  <Override PartName="/ppt/media/image9.jpeg" ContentType="image/jpeg"/>
  <Override PartName="/ppt/media/image30.jpeg" ContentType="image/jpeg"/>
  <Override PartName="/ppt/media/image43.png" ContentType="image/png"/>
  <Override PartName="/ppt/media/image7.jpeg" ContentType="image/jpeg"/>
  <Override PartName="/ppt/media/image35.gif" ContentType="image/gif"/>
  <Override PartName="/ppt/media/image38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42.png" ContentType="image/png"/>
  <Override PartName="/ppt/media/image2.jpeg" ContentType="image/jpeg"/>
  <Override PartName="/ppt/media/image23.jpeg" ContentType="image/jpeg"/>
  <Override PartName="/ppt/media/image4.wmf" ContentType="image/x-wmf"/>
  <Override PartName="/ppt/media/image1.png" ContentType="image/png"/>
  <Override PartName="/ppt/media/image3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0F4-6A18-4C24-9749-2DF98FD1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AD1-D719-472F-B1EC-DAE214E5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12D-83D7-4687-B0FA-E7E394B7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317-EF02-4DDF-B703-810069C5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777-3370-40E1-92D5-DBD348EE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527-ECF0-4B23-8E7E-12907F90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AFF-2393-4B9C-BFB9-F29F8BE4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8A8-D4BF-4526-B4C4-DFEFB833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71F-3CB7-4818-8B18-C441317C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D5A-219B-47A8-8489-7C1E8724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7EE-9CFF-43F3-B4D5-1D3D6910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9C4-2DC3-49DB-B183-05E7474F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8F4E-FC17-4377-8977-80BF2379A8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3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35.gif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19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337440" cy="485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333360"/>
            <a:ext cx="496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en and pencil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34100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Cartoon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ShockwaveFlash1"/>
          <p:cNvGraphicFramePr/>
          <p:nvPr/>
        </p:nvGraphicFramePr>
        <p:xfrm>
          <a:off x="1116000" y="1989000"/>
          <a:ext cx="691200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89000"/>
                    <a:ext cx="6912000" cy="460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332000" y="260280"/>
            <a:ext cx="5327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What’s in Sam’s lunch bo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Guess! Will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将）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Bobby eat the c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134136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1: Mike is looking for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91628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A. a pencil B. a rubber   C. a ru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2565360"/>
            <a:ext cx="776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2:---Did he find out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at last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终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378936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   B. No.   C. I don’t know (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不知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26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321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4880" y="260280"/>
            <a:ext cx="33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rtoon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50040" y="1187280"/>
            <a:ext cx="37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 and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9280" y="236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2492280"/>
            <a:ext cx="7489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   ) 1. What’s in Sam’s lunch bo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. pies           B. Bobby             C. cak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4292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   )2. Guess! Will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将）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Bobby eat the c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. Yes            B.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1800" y="256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256536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is Sam’s lunch bo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am says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 It’s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3789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here          B: over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artoon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84280"/>
            <a:ext cx="49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 again and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220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Arial"/>
              </a:rPr>
              <a:t>在哪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is Sam’s lunch box? Sam says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 It’s ______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Cartoon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1619280" y="1628640"/>
          <a:ext cx="626580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6265800" cy="468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5046840" cy="378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1280" y="414972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is Sam’s lunch bo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am says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 It’s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5229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here          B: over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1052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522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ver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635280" y="162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524720" y="162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76720" y="57340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那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3933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Arial"/>
              </a:rPr>
              <a:t>在哪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56360" y="981000"/>
            <a:ext cx="1152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1125360"/>
            <a:ext cx="2872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1125360"/>
            <a:ext cx="21600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7640" y="907920"/>
            <a:ext cx="1224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6360" y="90792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253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252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5092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2895480"/>
            <a:ext cx="532908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1.Read after the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跟读光盘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1" lang="zh-CN" sz="2000" spc="-1" strike="noStrike">
                <a:solidFill>
                  <a:srgbClr val="9900cc"/>
                </a:solidFill>
                <a:latin typeface="Arial"/>
              </a:rPr>
              <a:t>注意模仿录音中的语音语调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2. Read in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小组分角色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ad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my lunch box?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i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’s your lunch box?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over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! H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k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for you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bby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! Thank you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84328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36400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635280" y="299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635280" y="386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203640" y="350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492360" y="45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5508720" y="508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543564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6443640" y="1484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686560" y="285264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"/>
              </a:rPr>
              <a:t>小朋友们，注意语音语调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63680" y="2924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00040" y="328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790920" y="2881440"/>
            <a:ext cx="421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834120" y="2716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1"/>
          <a:stretch/>
        </p:blipFill>
        <p:spPr>
          <a:xfrm>
            <a:off x="684360" y="189000"/>
            <a:ext cx="15127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036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217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2539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225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12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573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808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3297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827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964720" cy="6723000"/>
          </a:xfrm>
          <a:prstGeom prst="rect">
            <a:avLst/>
          </a:prstGeom>
          <a:ln w="0">
            <a:noFill/>
          </a:ln>
        </p:spPr>
      </p:pic>
      <p:grpSp>
        <p:nvGrpSpPr>
          <p:cNvPr id="188" name="组合 2"/>
          <p:cNvGrpSpPr/>
          <p:nvPr/>
        </p:nvGrpSpPr>
        <p:grpSpPr>
          <a:xfrm>
            <a:off x="179280" y="0"/>
            <a:ext cx="3851280" cy="642960"/>
            <a:chOff x="179280" y="0"/>
            <a:chExt cx="3851280" cy="642960"/>
          </a:xfrm>
        </p:grpSpPr>
        <p:pic>
          <p:nvPicPr>
            <p:cNvPr id="189" name="Picture 2" descr=""/>
            <p:cNvPicPr/>
            <p:nvPr/>
          </p:nvPicPr>
          <p:blipFill>
            <a:blip r:embed="rId2"/>
            <a:srcRect l="0" t="0" r="94156" b="0"/>
            <a:stretch/>
          </p:blipFill>
          <p:spPr>
            <a:xfrm>
              <a:off x="179280" y="0"/>
              <a:ext cx="2142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4"/>
            <p:cNvSpPr/>
            <p:nvPr/>
          </p:nvSpPr>
          <p:spPr>
            <a:xfrm>
              <a:off x="321840" y="47520"/>
              <a:ext cx="370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Century Gothic"/>
                </a:rPr>
                <a:t>Let’s a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627280" y="2492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Show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328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ead or act in group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组分角色读一读或表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Tips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演时不要忘了介绍自己的角色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书表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不看书表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注意表情和动作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64000" y="2205000"/>
            <a:ext cx="4680000" cy="3511440"/>
          </a:xfrm>
          <a:prstGeom prst="rect">
            <a:avLst/>
          </a:prstGeom>
          <a:ln w="0">
            <a:noFill/>
          </a:ln>
        </p:spPr>
      </p:pic>
      <p:sp>
        <p:nvSpPr>
          <p:cNvPr id="194" name="圆角矩形 4"/>
          <p:cNvSpPr/>
          <p:nvPr/>
        </p:nvSpPr>
        <p:spPr>
          <a:xfrm>
            <a:off x="2627280" y="1413000"/>
            <a:ext cx="612144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有哪些带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/r/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发音的单词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2"/>
          <a:srcRect l="0" t="0" r="19877" b="0"/>
          <a:stretch/>
        </p:blipFill>
        <p:spPr>
          <a:xfrm>
            <a:off x="0" y="333360"/>
            <a:ext cx="2838600" cy="801720"/>
          </a:xfrm>
          <a:prstGeom prst="rect">
            <a:avLst/>
          </a:prstGeom>
          <a:ln w="0">
            <a:noFill/>
          </a:ln>
        </p:spPr>
      </p:pic>
      <p:sp>
        <p:nvSpPr>
          <p:cNvPr id="196" name="右弧形箭头 6"/>
          <p:cNvSpPr/>
          <p:nvPr/>
        </p:nvSpPr>
        <p:spPr>
          <a:xfrm rot="20392200">
            <a:off x="1116000" y="2492280"/>
            <a:ext cx="136440" cy="488880"/>
          </a:xfrm>
          <a:custGeom>
            <a:avLst/>
            <a:gdLst>
              <a:gd name="textAreaLeft" fmla="*/ 18000 w 136440"/>
              <a:gd name="textAreaRight" fmla="*/ 118440 w 136440"/>
              <a:gd name="textAreaTop" fmla="*/ 105840 h 488880"/>
              <a:gd name="textAreaBottom" fmla="*/ 3614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66" stAng="-5400000" swAng="5400000"/>
                <a:lnTo>
                  <a:pt x="21600" y="11278"/>
                </a:lnTo>
                <a:arcTo wR="21600" hR="9366" stAng="0" swAng="3553588"/>
                <a:lnTo>
                  <a:pt x="5400" y="21303"/>
                </a:lnTo>
                <a:lnTo>
                  <a:pt x="0" y="19687"/>
                </a:lnTo>
                <a:lnTo>
                  <a:pt x="5400" y="17477"/>
                </a:lnTo>
                <a:lnTo>
                  <a:pt x="5400" y="18434"/>
                </a:lnTo>
                <a:arcTo wR="21600" hR="9366" stAng="3553588" swAng="-3400738"/>
                <a:lnTo>
                  <a:pt x="21487" y="10322"/>
                </a:lnTo>
                <a:arcTo wR="21600" hR="9366" stAng="-152850" swAng="-5247150"/>
                <a:close/>
              </a:path>
              <a:path fill="darkenLess" w="21600" h="21600">
                <a:moveTo>
                  <a:pt x="0" y="0"/>
                </a:moveTo>
                <a:arcTo wR="21600" hR="9366" stAng="-5400000" swAng="5400000"/>
                <a:lnTo>
                  <a:pt x="21600" y="11278"/>
                </a:lnTo>
                <a:arcTo wR="21600" hR="9366" stAng="0" swAng="-152850"/>
                <a:lnTo>
                  <a:pt x="21487" y="10322"/>
                </a:lnTo>
                <a:arcTo wR="21600" hR="9366" stAng="-152850" swAng="-524715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11280" y="134136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haroni"/>
              </a:rPr>
              <a:t>r</a:t>
            </a:r>
            <a:endParaRPr b="1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haroni"/>
              <a:ea typeface="Aharoni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852640"/>
            <a:ext cx="122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005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右弧形箭头 6"/>
          <p:cNvSpPr/>
          <p:nvPr/>
        </p:nvSpPr>
        <p:spPr>
          <a:xfrm flipV="1" rot="17014200">
            <a:off x="5003280" y="3140640"/>
            <a:ext cx="360360" cy="935640"/>
          </a:xfrm>
          <a:custGeom>
            <a:avLst/>
            <a:gdLst>
              <a:gd name="textAreaLeft" fmla="*/ 48240 w 360360"/>
              <a:gd name="textAreaRight" fmla="*/ 312120 w 360360"/>
              <a:gd name="textAreaTop" fmla="*/ 202320 h 935640"/>
              <a:gd name="textAreaBottom" fmla="*/ 691200 h 93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66" stAng="-5400000" swAng="5400000"/>
                <a:lnTo>
                  <a:pt x="21600" y="11278"/>
                </a:lnTo>
                <a:arcTo wR="21600" hR="9366" stAng="0" swAng="3553588"/>
                <a:lnTo>
                  <a:pt x="5400" y="21303"/>
                </a:lnTo>
                <a:lnTo>
                  <a:pt x="0" y="19687"/>
                </a:lnTo>
                <a:lnTo>
                  <a:pt x="5400" y="17477"/>
                </a:lnTo>
                <a:lnTo>
                  <a:pt x="5400" y="18434"/>
                </a:lnTo>
                <a:arcTo wR="21600" hR="9366" stAng="3553588" swAng="-3400738"/>
                <a:lnTo>
                  <a:pt x="21487" y="10322"/>
                </a:lnTo>
                <a:arcTo wR="21600" hR="9366" stAng="-152850" swAng="-5247150"/>
                <a:close/>
              </a:path>
              <a:path fill="darkenLess" w="21600" h="21600">
                <a:moveTo>
                  <a:pt x="0" y="0"/>
                </a:moveTo>
                <a:arcTo wR="21600" hR="9366" stAng="-5400000" swAng="5400000"/>
                <a:lnTo>
                  <a:pt x="21600" y="11278"/>
                </a:lnTo>
                <a:arcTo wR="21600" hR="9366" stAng="0" swAng="-152850"/>
                <a:lnTo>
                  <a:pt x="21487" y="10322"/>
                </a:lnTo>
                <a:arcTo wR="21600" hR="9366" stAng="-152850" swAng="-524715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04000" y="17733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505620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uler, a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ubb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e(d)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o-bot has a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uler an(d) a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ub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392436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730872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22640" y="602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784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5128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3564000" cy="2675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124000" y="981000"/>
            <a:ext cx="6624720" cy="5310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99640" y="2636640"/>
            <a:ext cx="7417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听磁带背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Cartoon time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听磁带练习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ound time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WordArt 3" descr="白色大理石"/>
          <p:cNvPicPr/>
          <p:nvPr/>
        </p:nvPicPr>
        <p:blipFill>
          <a:blip r:embed="rId3"/>
          <a:stretch/>
        </p:blipFill>
        <p:spPr>
          <a:xfrm>
            <a:off x="468360" y="0"/>
            <a:ext cx="38955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674640"/>
            <a:ext cx="8244000" cy="6183360"/>
          </a:xfrm>
          <a:prstGeom prst="rect">
            <a:avLst/>
          </a:prstGeom>
          <a:ln w="0">
            <a:noFill/>
          </a:ln>
        </p:spPr>
      </p:pic>
      <p:sp>
        <p:nvSpPr>
          <p:cNvPr id="44" name="圆角矩形 15"/>
          <p:cNvSpPr/>
          <p:nvPr/>
        </p:nvSpPr>
        <p:spPr>
          <a:xfrm>
            <a:off x="2843280" y="620640"/>
            <a:ext cx="5929200" cy="889200"/>
          </a:xfrm>
          <a:prstGeom prst="roundRect">
            <a:avLst>
              <a:gd name="adj" fmla="val 16667"/>
            </a:avLst>
          </a:prstGeom>
          <a:solidFill>
            <a:srgbClr val="ef8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Users\Administrator\Desktop\2.tif"/>
          <p:cNvPicPr/>
          <p:nvPr/>
        </p:nvPicPr>
        <p:blipFill>
          <a:blip r:embed="rId2"/>
          <a:stretch/>
        </p:blipFill>
        <p:spPr>
          <a:xfrm>
            <a:off x="0" y="620640"/>
            <a:ext cx="2556000" cy="3044880"/>
          </a:xfrm>
          <a:prstGeom prst="rect">
            <a:avLst/>
          </a:prstGeom>
          <a:ln w="0">
            <a:noFill/>
          </a:ln>
        </p:spPr>
      </p:pic>
      <p:sp>
        <p:nvSpPr>
          <p:cNvPr id="46" name="标题 1"/>
          <p:cNvSpPr/>
          <p:nvPr/>
        </p:nvSpPr>
        <p:spPr>
          <a:xfrm>
            <a:off x="0" y="1844640"/>
            <a:ext cx="1800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Jokerman"/>
              </a:rPr>
              <a:t>U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标题 1"/>
          <p:cNvSpPr/>
          <p:nvPr/>
        </p:nvSpPr>
        <p:spPr>
          <a:xfrm>
            <a:off x="2627280" y="1628640"/>
            <a:ext cx="63262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85080" y="2997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ss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标题 1"/>
          <p:cNvSpPr/>
          <p:nvPr/>
        </p:nvSpPr>
        <p:spPr>
          <a:xfrm>
            <a:off x="3203640" y="692280"/>
            <a:ext cx="5651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Broadway BT"/>
              </a:rPr>
              <a:t>Is this your penc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635280" y="2565360"/>
            <a:ext cx="1631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1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877080" cy="515808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0" y="857160"/>
            <a:ext cx="3286080" cy="642960"/>
            <a:chOff x="0" y="857160"/>
            <a:chExt cx="3286080" cy="642960"/>
          </a:xfrm>
        </p:grpSpPr>
        <p:pic>
          <p:nvPicPr>
            <p:cNvPr id="212" name="Picture 2" descr=""/>
            <p:cNvPicPr/>
            <p:nvPr/>
          </p:nvPicPr>
          <p:blipFill>
            <a:blip r:embed="rId2"/>
            <a:srcRect l="0" t="0" r="94156" b="0"/>
            <a:stretch/>
          </p:blipFill>
          <p:spPr>
            <a:xfrm>
              <a:off x="0" y="857160"/>
              <a:ext cx="2142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4"/>
            <p:cNvSpPr/>
            <p:nvPr/>
          </p:nvSpPr>
          <p:spPr>
            <a:xfrm>
              <a:off x="142560" y="904680"/>
              <a:ext cx="314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Century Gothic"/>
                </a:rPr>
                <a:t>Goodbye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3640" y="37162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1773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170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170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0766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4005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005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558972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cil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213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14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661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3213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ay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00000" y="333360"/>
            <a:ext cx="5832000" cy="863280"/>
            <a:chOff x="900000" y="333360"/>
            <a:chExt cx="5832000" cy="863280"/>
          </a:xfrm>
        </p:grpSpPr>
        <p:sp>
          <p:nvSpPr>
            <p:cNvPr id="66" name="WordArt 10"/>
            <p:cNvSpPr txBox="1"/>
            <p:nvPr/>
          </p:nvSpPr>
          <p:spPr>
            <a:xfrm>
              <a:off x="900000" y="333360"/>
              <a:ext cx="3416040" cy="86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cc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Snap ITC"/>
                </a:rPr>
                <a:t>Say and spell!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nap ITC"/>
                <a:ea typeface="Snap ITC"/>
              </a:endParaRPr>
            </a:p>
          </p:txBody>
        </p:sp>
        <p:sp>
          <p:nvSpPr>
            <p:cNvPr id="67" name="WordArt 10"/>
            <p:cNvSpPr txBox="1"/>
            <p:nvPr/>
          </p:nvSpPr>
          <p:spPr>
            <a:xfrm>
              <a:off x="4399200" y="428760"/>
              <a:ext cx="2332800" cy="67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cc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说一说、拼一拼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116000" y="1484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780000" y="1341360"/>
            <a:ext cx="253980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84720" y="170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659640" y="422100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603840" y="134136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4643280" y="4653000"/>
            <a:ext cx="971640" cy="70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5661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56360" y="40766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3548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"/>
                <a:ea typeface="楷体"/>
              </a:rPr>
              <a:t>你捡到了一个学习用品，不知道文具的名称，请小组内询问的同时，找找主人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-Hello! xxx What’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- It’s a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- Is this your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-Yes, it is./ No, it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- Here you 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- Thank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-  You’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云形标注 5"/>
          <p:cNvSpPr/>
          <p:nvPr/>
        </p:nvSpPr>
        <p:spPr>
          <a:xfrm rot="1014600">
            <a:off x="-323640" y="2349360"/>
            <a:ext cx="8533080" cy="4824720"/>
          </a:xfrm>
          <a:prstGeom prst="cloudCallout">
            <a:avLst>
              <a:gd name="adj1" fmla="val -26074"/>
              <a:gd name="adj2" fmla="val -14412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23840" y="299880"/>
            <a:ext cx="33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p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12000" y="5300640"/>
            <a:ext cx="18000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仿宋"/>
              </a:rPr>
              <a:t>摸一摸、看一看，让其他同学猜一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Is that a  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No, it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Is that a 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Yes,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219640" y="2133720"/>
            <a:ext cx="2881440" cy="1749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84360" y="0"/>
            <a:ext cx="316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uess time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4464000" cy="3862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76400" y="48880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现在小组来玩这个游戏吧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rtoon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746280" cy="9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1871640" cy="180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20360" y="4437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37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32360" y="4869000"/>
            <a:ext cx="1655640" cy="10666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2"/>
          <p:cNvGrpSpPr/>
          <p:nvPr/>
        </p:nvGrpSpPr>
        <p:grpSpPr>
          <a:xfrm>
            <a:off x="-181080" y="-531720"/>
            <a:ext cx="9324000" cy="7632000"/>
            <a:chOff x="-181080" y="-531720"/>
            <a:chExt cx="9324000" cy="7632000"/>
          </a:xfrm>
        </p:grpSpPr>
        <p:sp>
          <p:nvSpPr>
            <p:cNvPr id="95" name="Rectangle 3"/>
            <p:cNvSpPr/>
            <p:nvPr/>
          </p:nvSpPr>
          <p:spPr>
            <a:xfrm>
              <a:off x="751680" y="2662920"/>
              <a:ext cx="7692120" cy="443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4"/>
            <p:cNvSpPr/>
            <p:nvPr/>
          </p:nvSpPr>
          <p:spPr>
            <a:xfrm>
              <a:off x="-181080" y="-531720"/>
              <a:ext cx="9324000" cy="3372480"/>
            </a:xfrm>
            <a:prstGeom prst="flowChartExtract">
              <a:avLst/>
            </a:pr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1819440" cy="2449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372360" y="3789360"/>
            <a:ext cx="1863720" cy="273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148360" y="5084640"/>
            <a:ext cx="1655640" cy="1067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查看详细信息"/>
          <p:cNvPicPr/>
          <p:nvPr/>
        </p:nvPicPr>
        <p:blipFill>
          <a:blip r:embed="rId6"/>
          <a:stretch/>
        </p:blipFill>
        <p:spPr>
          <a:xfrm>
            <a:off x="5003640" y="1197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3780000" y="2997360"/>
            <a:ext cx="1223640" cy="1139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484360" y="1268280"/>
            <a:ext cx="13683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-0.27951 -0.00416 E">
                                      <p:cBhvr>
                                        <p:cTn id="7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64000" y="692280"/>
            <a:ext cx="1800000" cy="1695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796000" y="2997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-396720" y="278136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12000" y="1125360"/>
            <a:ext cx="15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午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112536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3007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45 0.07755 C 0.06788 0.08843 0.07031 0.09931 0.07291 0.10996 C 0.07656 0.14722 0.07673 0.17176 0.07743 0.21482 C 0.07534 0.23403 0.07239 0.25116 0.0684 0.26945 C 0.06649 0.27847 0.06579 0.28704 0.06076 0.29375 C 0.05798 0.30556 0.05052 0.31551 0.04409 0.32408 C 0.04097 0.32824 0.03663 0.32986 0.0335 0.33403 C 0.03177 0.33634 0.0309 0.33982 0.02899 0.34213 C 0.02447 0.34746 0.01718 0.34977 0.01232 0.3544 C 0.01059 0.35602 0.00972 0.35903 0.00781 0.36042 C 0.00034 0.36597 -0.0099 0.36852 -0.01789 0.37246 C -0.02153 0.37431 -0.02483 0.37709 -0.02865 0.37847 C -0.03664 0.38125 -0.0448 0.38195 -0.05278 0.38449 C -0.06146 0.39213 -0.06615 0.39259 -0.07553 0.39676 C -0.07969 0.39861 -0.08386 0.40023 -0.08768 0.40278 C -0.0941 0.40695 -0.09202 0.40972 -0.09827 0.41088 C -0.10382 0.41204 -0.10938 0.41227 -0.11493 0.41296 C -0.12657 0.41644 -0.13976 0.41829 -0.15122 0.42292 C -0.15799 0.42894 -0.16615 0.43009 -0.17396 0.4331 C -0.18195 0.44144 -0.18716 0.44398 -0.19671 0.44722 C -0.20521 0.45857 -0.21789 0.46435 -0.22865 0.47153 C -0.23768 0.47755 -0.23507 0.47847 -0.24532 0.48357 C -0.25417 0.48773 -0.26424 0.48704 -0.27257 0.49375 C -0.28282 0.50232 -0.29237 0.51134 -0.30278 0.51991 C -0.30643 0.52292 -0.31198 0.53218 -0.31198 0.53241 C -0.31441 0.54259 -0.31962 0.54884 -0.32709 0.55232 C -0.33368 0.57037 -0.32535 0.55278 -0.33612 0.56227 C -0.33907 0.56482 -0.34375 0.57222 -0.34375 0.57246 C -0.34549 0.59398 -0.35035 0.63634 -0.33004 0.64329 C -0.329 0.64514 -0.32865 0.64815 -0.32709 0.64931 C -0.32431 0.65162 -0.31789 0.65324 -0.31789 0.65347 L -0.29532 0.65718 E">
                                      <p:cBhvr>
                                        <p:cTn id="9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227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134136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1: Mike is looking for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91628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A. a pencil B. a rubber   C. a ru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565360"/>
            <a:ext cx="776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2:---Did he find out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at last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终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378936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   B. No.   C. I don’t know (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不知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126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321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4880" y="260280"/>
            <a:ext cx="33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rtoon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0040" y="1187280"/>
            <a:ext cx="37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 and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9280" y="236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2492280"/>
            <a:ext cx="7489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   ) 1. What’s in Sam’s lunch bo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. pies           B. Bobby             C. cak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4292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   )2. Guess! Will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将）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Bobby eat the c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. Yes            B.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13:29:37Z</dcterms:created>
  <dc:creator>amy0207</dc:creator>
  <dc:description/>
  <dc:language>en-US</dc:language>
  <cp:lastModifiedBy>amy0207</cp:lastModifiedBy>
  <dcterms:modified xsi:type="dcterms:W3CDTF">2013-03-12T02:53:40Z</dcterms:modified>
  <cp:revision>60</cp:revision>
  <dc:subject/>
  <dc:title>幻灯片 1</dc:title>
</cp:coreProperties>
</file>